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62E-0E01-4AE8-9057-27FD8167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D49-9C45-4C5A-A4B9-184D04B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E27-9776-455D-8E19-CCD4F3D8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AB4-44B5-498E-AD64-73CEC25A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F60-D4F3-4D48-9FC5-909D5058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987-EDEE-4292-B2FB-06A3383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0EF-2829-4873-82E8-BE626571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227-E69C-45B8-834B-DEB3A86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F6C5-723A-48C0-851A-A2018F5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97E-6EAC-42AA-974F-9A71D5CB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1D6C-4E60-4E24-9047-F8216860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959-9F75-4575-A208-07825A0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37A5-F286-4BC5-B339-541CFBA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925-9B91-42D1-9D41-3E53668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EAAC-D152-4A7C-AF8F-9947AC0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0F2-8073-4822-9EA8-84D72974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25A8-FE0C-4211-8867-2AE1041B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E77-61B7-41B3-BF0A-756D28C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CE5-FA86-42F3-A833-0E286E7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207-168F-4360-A950-2D71583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02D-2BF1-4697-A8CA-07D87DDE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E78-A4B0-4584-ADC4-C05510A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0CA-E128-4E00-8B99-DEDC0E9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5EB-A86E-497E-9F2C-9A44A16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123-6DED-4EAB-8D4A-6F8C17B559E1}" type="slidenum">
              <a:rPr b="0" lang="pl-PL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EB3-FBB8-4462-81F2-4E5DD8518F5A}" type="slidenum">
              <a:rPr b="0" lang="pl-PL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82400"/>
                </a:solidFill>
                <a:latin typeface="Times New Roman"/>
              </a:rPr>
              <a:t>STANISŁAW WYSPIAŃSKI ARTYSTA MALARZ </a:t>
            </a:r>
            <a:br>
              <a:rPr sz="4000"/>
            </a:br>
            <a:r>
              <a:rPr b="0" lang="pl-PL" sz="4000" spc="-1" strike="noStrike">
                <a:solidFill>
                  <a:srgbClr val="482400"/>
                </a:solidFill>
                <a:latin typeface="Times New Roman"/>
              </a:rPr>
              <a:t>I DRAMATURG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pracowała mgr Aneta Błyszcz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82400"/>
                </a:solidFill>
                <a:latin typeface="Times New Roman"/>
              </a:rPr>
              <a:t>Projekty witraży</a:t>
            </a:r>
            <a:endParaRPr b="0" lang="en-US" sz="43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5080" y="58672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Polon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3600" y="5872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Kazimierz Wielk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10%20aq%20Polonia%20" descr=""/>
          <p:cNvPicPr/>
          <p:nvPr/>
        </p:nvPicPr>
        <p:blipFill>
          <a:blip r:embed="rId2"/>
          <a:stretch/>
        </p:blipFill>
        <p:spPr>
          <a:xfrm>
            <a:off x="1407960" y="1676520"/>
            <a:ext cx="2859120" cy="4190760"/>
          </a:xfrm>
          <a:prstGeom prst="rect">
            <a:avLst/>
          </a:prstGeom>
          <a:ln w="0">
            <a:noFill/>
          </a:ln>
        </p:spPr>
      </p:pic>
      <p:pic>
        <p:nvPicPr>
          <p:cNvPr id="128" name="10%20b%20K.%20Wielki%203" descr=""/>
          <p:cNvPicPr/>
          <p:nvPr/>
        </p:nvPicPr>
        <p:blipFill>
          <a:blip r:embed="rId3"/>
          <a:stretch/>
        </p:blipFill>
        <p:spPr>
          <a:xfrm>
            <a:off x="4989600" y="1681200"/>
            <a:ext cx="298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482400"/>
                </a:solidFill>
                <a:uFillTx/>
                <a:latin typeface="Times New Roman"/>
              </a:rPr>
              <a:t>W 1891 r. w liście  do przyjaciela Wyspiański napisał:</a:t>
            </a:r>
            <a:br>
              <a:rPr sz="2900"/>
            </a:br>
            <a:endParaRPr b="0" lang="en-US" sz="29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 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... ja nie potrafię i nie mogę być jednostronnym, mnie prócz malarstwa interesuje wiele innych rzeczy, które chciałbym widzieć uosobione koło siebi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82400"/>
                </a:solidFill>
                <a:latin typeface="Times New Roman"/>
              </a:rPr>
              <a:t>Koncepcja „teatru ogromnego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wiązuje do tradycji antycznej (również w dziedzinie przestrzeni amfiteatr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ożliwia widzowi przeżycia mist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pełniony problematyką wielką - narodow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syntezą sztuki: plastyki, tańca, architektury, muzyki, gestu, słowa (artysta sam przygotowywał projekty kostiumów, zabudowy scen, dekoracj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teatr mój widzę ogromny, wielkie powietrzne przestrzeni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482400"/>
                </a:solidFill>
                <a:uFillTx/>
                <a:latin typeface="Times New Roman"/>
              </a:rPr>
              <a:t>Dramaty Wyspiańskiego są związane z historią narodu polskiego i walką o wyzwolenie narodowe</a:t>
            </a:r>
            <a:endParaRPr b="0" lang="en-US" sz="29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Warszawiank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Legen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Lelew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Noc listopadow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Wese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Wyzwoleni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Akropol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2800" spc="-1" strike="noStrike">
                <a:solidFill>
                  <a:srgbClr val="0000ff"/>
                </a:solidFill>
                <a:latin typeface="Times New Roman"/>
              </a:rPr>
              <a:t>Zygmunt Augu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482400"/>
                </a:solidFill>
                <a:latin typeface="Times New Roman"/>
              </a:rPr>
              <a:t>Ślub Lucjana Rydla z mieszkanką Bronowic Jadwigą Mikołajczykówną stał się inspiracją do napisania „Wesela”</a:t>
            </a:r>
            <a:endParaRPr b="0" lang="en-US" sz="29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60199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791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Dom W. Tetmajera w Bronowic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6248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L. Rydel i J. Mikołajczyków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1640" y="1766520"/>
            <a:ext cx="3808440" cy="1979640"/>
          </a:xfrm>
          <a:prstGeom prst="rect">
            <a:avLst/>
          </a:prstGeom>
          <a:ln w="0">
            <a:noFill/>
          </a:ln>
        </p:spPr>
      </p:pic>
      <p:pic>
        <p:nvPicPr>
          <p:cNvPr id="140" name="14%20a%20dom%20Tetmajera" descr=""/>
          <p:cNvPicPr/>
          <p:nvPr/>
        </p:nvPicPr>
        <p:blipFill>
          <a:blip r:embed="rId3"/>
          <a:stretch/>
        </p:blipFill>
        <p:spPr>
          <a:xfrm>
            <a:off x="966960" y="2009880"/>
            <a:ext cx="4228920" cy="3585960"/>
          </a:xfrm>
          <a:prstGeom prst="rect">
            <a:avLst/>
          </a:prstGeom>
          <a:ln w="0">
            <a:noFill/>
          </a:ln>
        </p:spPr>
      </p:pic>
      <p:pic>
        <p:nvPicPr>
          <p:cNvPr id="141" name="14%20b%20Rydel" descr=""/>
          <p:cNvPicPr/>
          <p:nvPr/>
        </p:nvPicPr>
        <p:blipFill>
          <a:blip r:embed="rId4"/>
          <a:stretch/>
        </p:blipFill>
        <p:spPr>
          <a:xfrm>
            <a:off x="5554800" y="1690560"/>
            <a:ext cx="2846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482400"/>
                </a:solidFill>
                <a:latin typeface="Times New Roman"/>
              </a:rPr>
              <a:t>W bronowickiej chacie pojawił się Chochoł – symbol ratunku oraz zatrzymania życia, letargu</a:t>
            </a:r>
            <a:endParaRPr b="0" lang="en-US" sz="29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60958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Stanisław Wyspiański „Chochoł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61640" y="1766520"/>
            <a:ext cx="3808440" cy="1979640"/>
          </a:xfrm>
          <a:prstGeom prst="rect">
            <a:avLst/>
          </a:prstGeom>
          <a:ln w="0">
            <a:noFill/>
          </a:ln>
        </p:spPr>
      </p:pic>
      <p:pic>
        <p:nvPicPr>
          <p:cNvPr id="145" name="15%20chocholy" descr=""/>
          <p:cNvPicPr/>
          <p:nvPr/>
        </p:nvPicPr>
        <p:blipFill>
          <a:blip r:embed="rId3"/>
          <a:stretch/>
        </p:blipFill>
        <p:spPr>
          <a:xfrm>
            <a:off x="2771640" y="1685880"/>
            <a:ext cx="4114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 u="sng">
                <a:solidFill>
                  <a:srgbClr val="482400"/>
                </a:solidFill>
                <a:uFillTx/>
                <a:latin typeface="Times New Roman"/>
              </a:rPr>
              <a:t>Przyjaciel twórcy „Wesela” Józef Mehoffer w 1932 r. powiedział:</a:t>
            </a:r>
            <a:r>
              <a:rPr b="0" lang="pl-PL" sz="29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3200" spc="-1" strike="noStrike">
                <a:solidFill>
                  <a:srgbClr val="0000ff"/>
                </a:solidFill>
                <a:latin typeface="Times New Roman"/>
              </a:rPr>
              <a:t>Wyspiański – to za wszelką cenę wrażliwość, jako źródło przez które przedarła się rzeka. Wyspiański – to za wszelką cenę treść artystyczna oparta na inwencji, jako rzeka, która z tego źródła szeroko popłynęł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82400"/>
                </a:solidFill>
                <a:latin typeface="Times New Roman"/>
              </a:rPr>
              <a:t>Stanisław Wyspiański </a:t>
            </a:r>
            <a:r>
              <a:rPr b="0" lang="pl-PL" sz="4000" spc="-1" strike="noStrike">
                <a:solidFill>
                  <a:srgbClr val="0000ff"/>
                </a:solidFill>
                <a:latin typeface="Times New Roman"/>
              </a:rPr>
              <a:t>(1869 – 1907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410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ff"/>
                </a:solidFill>
                <a:latin typeface="Times New Roman"/>
              </a:rPr>
              <a:t>Autoport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1640" y="1766880"/>
            <a:ext cx="7769160" cy="4113360"/>
          </a:xfrm>
          <a:prstGeom prst="rect">
            <a:avLst/>
          </a:prstGeom>
          <a:ln w="0">
            <a:noFill/>
          </a:ln>
        </p:spPr>
      </p:pic>
      <p:pic>
        <p:nvPicPr>
          <p:cNvPr id="93" name="2%20Wyspianski" descr=""/>
          <p:cNvPicPr/>
          <p:nvPr/>
        </p:nvPicPr>
        <p:blipFill>
          <a:blip r:embed="rId3"/>
          <a:stretch/>
        </p:blipFill>
        <p:spPr>
          <a:xfrm>
            <a:off x="3467160" y="1676520"/>
            <a:ext cx="270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82400"/>
                </a:solidFill>
                <a:latin typeface="Times New Roman"/>
              </a:rPr>
              <a:t>Stanisław Wyspiańsk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Times New Roman"/>
              </a:rPr>
              <a:t>By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szechstronnym artystą malarzem malującym obrazy, zajmującym się sztuką witrażu, polichromią ścienną, scenografią, projektowaniem wnętrz, plakatem, ilustratorstw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etą i dramaturg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scenizatorem i teoretykiem tea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82400"/>
                </a:solidFill>
                <a:latin typeface="Times New Roman"/>
              </a:rPr>
              <a:t>Kraków – rodzinne miasto S.Wyspiańskieg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48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U stóp Wawelu miał ojciec pracownię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wielką izbę białą wysklepion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żyjącą figur zmarłych wielkim tłum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am chłopiec mały chodziłem, co czułe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to później w kształty mej sztuki zakułem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S. Wyspiańsk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Waw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4%20Wawel" descr=""/>
          <p:cNvPicPr/>
          <p:nvPr/>
        </p:nvPicPr>
        <p:blipFill>
          <a:blip r:embed="rId2"/>
          <a:stretch/>
        </p:blipFill>
        <p:spPr>
          <a:xfrm>
            <a:off x="709560" y="2224080"/>
            <a:ext cx="4191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82400"/>
                </a:solidFill>
                <a:latin typeface="Times New Roman"/>
              </a:rPr>
              <a:t>Kraków w malarstwie artys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Barbakan</a:t>
            </a:r>
            <a:r>
              <a:rPr b="0" lang="pl-P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i Brama Floriańsk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94360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Widok z okna pracowni na      Kopiec Kościuszk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5a%20barbakan" descr=""/>
          <p:cNvPicPr/>
          <p:nvPr/>
        </p:nvPicPr>
        <p:blipFill>
          <a:blip r:embed="rId2"/>
          <a:stretch/>
        </p:blipFill>
        <p:spPr>
          <a:xfrm>
            <a:off x="1433520" y="1766880"/>
            <a:ext cx="3043080" cy="402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22360" y="1766520"/>
            <a:ext cx="3808440" cy="1979640"/>
          </a:xfrm>
          <a:prstGeom prst="rect">
            <a:avLst/>
          </a:prstGeom>
          <a:ln w="0">
            <a:noFill/>
          </a:ln>
        </p:spPr>
      </p:pic>
      <p:pic>
        <p:nvPicPr>
          <p:cNvPr id="105" name="Widok%20na%20kopiec" descr=""/>
          <p:cNvPicPr/>
          <p:nvPr/>
        </p:nvPicPr>
        <p:blipFill>
          <a:blip r:embed="rId4"/>
          <a:stretch/>
        </p:blipFill>
        <p:spPr>
          <a:xfrm>
            <a:off x="5370480" y="1790640"/>
            <a:ext cx="2936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82400"/>
                </a:solidFill>
                <a:latin typeface="Times New Roman"/>
              </a:rPr>
              <a:t>Kraków w malarstwie artys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62485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Kościół Mariack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276720"/>
            <a:ext cx="5257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"/>
              </a:rPr>
              <a:t>O, kocham Kraków – bo nie od kamie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000000"/>
                </a:solidFill>
                <a:latin typeface="Times New Roman"/>
              </a:rPr>
              <a:t>przykrościm doznał – lecz od żywych ludzi...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"/>
              </a:rPr>
              <a:t>(Stanisław Wyspiański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6%20Mariacki%20Kosciol" descr=""/>
          <p:cNvPicPr/>
          <p:nvPr/>
        </p:nvPicPr>
        <p:blipFill>
          <a:blip r:embed="rId2"/>
          <a:stretch/>
        </p:blipFill>
        <p:spPr>
          <a:xfrm>
            <a:off x="1071720" y="1700280"/>
            <a:ext cx="3203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82400"/>
                </a:solidFill>
                <a:latin typeface="Times New Roman"/>
              </a:rPr>
              <a:t>Portrety dziec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52520" y="60958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Główka Helenk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53341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Dziewczynka z dzbankie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7%20a%20glowka%20Helenki" descr=""/>
          <p:cNvPicPr/>
          <p:nvPr/>
        </p:nvPicPr>
        <p:blipFill>
          <a:blip r:embed="rId2"/>
          <a:stretch/>
        </p:blipFill>
        <p:spPr>
          <a:xfrm>
            <a:off x="1109520" y="1676520"/>
            <a:ext cx="3314880" cy="4419360"/>
          </a:xfrm>
          <a:prstGeom prst="rect">
            <a:avLst/>
          </a:prstGeom>
          <a:ln w="0">
            <a:noFill/>
          </a:ln>
        </p:spPr>
      </p:pic>
      <p:pic>
        <p:nvPicPr>
          <p:cNvPr id="114" name="7%20b%20dziewczynka" descr=""/>
          <p:cNvPicPr/>
          <p:nvPr/>
        </p:nvPicPr>
        <p:blipFill>
          <a:blip r:embed="rId3"/>
          <a:stretch/>
        </p:blipFill>
        <p:spPr>
          <a:xfrm>
            <a:off x="4548240" y="2071800"/>
            <a:ext cx="43369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82400"/>
                </a:solidFill>
                <a:latin typeface="Times New Roman"/>
              </a:rPr>
              <a:t>Macierzyństwo – motyw malarski</a:t>
            </a:r>
            <a:endParaRPr b="0" lang="en-US" sz="43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8672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Żona z syne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3341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„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Macierzyństw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61640" y="1766520"/>
            <a:ext cx="3808440" cy="1979640"/>
          </a:xfrm>
          <a:prstGeom prst="rect">
            <a:avLst/>
          </a:prstGeom>
          <a:ln w="0">
            <a:noFill/>
          </a:ln>
        </p:spPr>
      </p:pic>
      <p:pic>
        <p:nvPicPr>
          <p:cNvPr id="119" name="8%20a%20zona%20z%20synem" descr=""/>
          <p:cNvPicPr/>
          <p:nvPr/>
        </p:nvPicPr>
        <p:blipFill>
          <a:blip r:embed="rId3"/>
          <a:stretch/>
        </p:blipFill>
        <p:spPr>
          <a:xfrm>
            <a:off x="1257480" y="1662120"/>
            <a:ext cx="3182760" cy="4172040"/>
          </a:xfrm>
          <a:prstGeom prst="rect">
            <a:avLst/>
          </a:prstGeom>
          <a:ln w="0">
            <a:noFill/>
          </a:ln>
        </p:spPr>
      </p:pic>
      <p:pic>
        <p:nvPicPr>
          <p:cNvPr id="120" name="8%20b%20macierzynstwo" descr=""/>
          <p:cNvPicPr/>
          <p:nvPr/>
        </p:nvPicPr>
        <p:blipFill>
          <a:blip r:embed="rId4"/>
          <a:stretch/>
        </p:blipFill>
        <p:spPr>
          <a:xfrm>
            <a:off x="4595760" y="1978200"/>
            <a:ext cx="43182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482400"/>
                </a:solidFill>
                <a:latin typeface="Times New Roman"/>
              </a:rPr>
              <a:t>Okładki z rysunkami artysty</a:t>
            </a:r>
            <a:endParaRPr b="0" lang="en-US" sz="43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9%20a%20Lelewel" descr=""/>
          <p:cNvPicPr/>
          <p:nvPr/>
        </p:nvPicPr>
        <p:blipFill>
          <a:blip r:embed="rId2"/>
          <a:stretch/>
        </p:blipFill>
        <p:spPr>
          <a:xfrm>
            <a:off x="1447920" y="1666800"/>
            <a:ext cx="2944800" cy="4419720"/>
          </a:xfrm>
          <a:prstGeom prst="rect">
            <a:avLst/>
          </a:prstGeom>
          <a:ln w="0">
            <a:noFill/>
          </a:ln>
        </p:spPr>
      </p:pic>
      <p:pic>
        <p:nvPicPr>
          <p:cNvPr id="123" name="9%20b%20Legenda" descr=""/>
          <p:cNvPicPr/>
          <p:nvPr/>
        </p:nvPicPr>
        <p:blipFill>
          <a:blip r:embed="rId3"/>
          <a:stretch/>
        </p:blipFill>
        <p:spPr>
          <a:xfrm>
            <a:off x="4940280" y="1652760"/>
            <a:ext cx="29908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20:34:02Z</dcterms:created>
  <dc:creator>Andrzej Błyszczek</dc:creator>
  <dc:description/>
  <dc:language>en-US</dc:language>
  <cp:lastModifiedBy>Andrzej Błyszczek</cp:lastModifiedBy>
  <dcterms:modified xsi:type="dcterms:W3CDTF">2003-09-23T16:14:51Z</dcterms:modified>
  <cp:revision>22</cp:revision>
  <dc:subject/>
  <dc:title>STANISŁAW WYSPIAŃSKI ARTYSTA MALARZ  I DRAMATURG</dc:title>
</cp:coreProperties>
</file>